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3F2-B2B2-4C36-9F8D-34112772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121-848B-43A9-9631-51966AEE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BC2-0105-43F1-9779-AC019281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50E-DFB1-4BF4-8CA1-5589EC81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875B-C1F8-40A8-8FE1-4CAE840C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445D-40CA-4996-BC01-C2175FCD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D8F2-111B-46B3-942B-D005AF82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6664-AACF-4022-9B3B-BB0F32D7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53AC-F185-485D-9703-BFBB1F57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066D-B982-4A71-A7F3-108F266D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4D27-73E4-4A8E-A5E0-EF3BD6C5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35E-902D-41E1-A49F-5A3ED914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42EE-5084-4025-B5C3-1228C596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DA71-97F9-4451-A11C-3FB45BED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8D6D-9813-4934-9180-361ABC37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F24B-43B0-4E34-8E4E-CD515460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7829-6E1D-47F6-826C-DC9690CA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D5A31-BA32-4B8E-A0B8-A3DA5D6A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D25F5-0EF5-4E52-B778-F955C09E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55AF-368C-42E9-B99A-B5C809FB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704F-9856-495A-A3AB-3C62BC51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A69F5-5664-4F92-BB12-F55FCCB2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6A4-D97B-4DD8-9588-E478FE0E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CECE-8D01-4942-BE96-19273048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43EA-E227-4A7D-A76B-EA4BBE18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D7CB9-8403-4018-85DD-37B32EA6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2A618-4A02-47AF-ACAF-B9631315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711F-3FA6-4EB1-BC89-E8F83064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FC4B-D283-45BC-B619-C82156E5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E01F-E33F-4DF3-AB87-91B9ACF6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E32BD-9A46-4617-AD7A-6AB07BA2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B4F98-7536-413D-8F1C-A20EF89D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F4825-838B-47CF-8802-ED482CEC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FA4-0B49-465A-93AF-D57FDE29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39805-C42D-405B-BBB5-F92DF29C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6C0FD-37E3-4D79-BAC3-182B2175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8597B-CCF6-43FC-A389-56EFE732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83B58-4EBC-4B1D-B9D4-73C77259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F1F0-1634-4244-9165-72B1F555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A37A0-3729-44DC-BD9F-CE3661D2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D0C23-3C50-44AA-B19F-2AC584B0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D4A71-9FEE-4562-92DD-7DB6B360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447B2-7887-436A-A7CD-DDC702CB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7842D-04E2-4B76-A77D-EAD2F812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DD8-D7EE-4C5B-96DE-BDDA594B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AC009-1D7D-4CEF-A432-8874CD39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B86CD-2A32-490D-B310-D1525728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BF03-6B28-4298-8407-E0477F4D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72172-300F-4EFC-9A0C-65B6D3A5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29A90-643C-4442-A479-661AFA92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3D6E8-2FB6-48C1-8F5E-D8129DF5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26681-3D33-41B3-B1AB-2BB9DFB2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1E1BC-9B2D-42FB-8A0D-893F91FD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659DC-9460-4A99-A70A-C5FACB82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53298-0198-426B-89DF-BBDAE1FF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414-3995-435F-8900-C3C69241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67430-60AC-4543-AEE7-F102EE78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BC1FF-7972-4F31-86E8-F8042C95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D5A41-334C-4B97-9E13-AC6BAB08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C0426-F105-422A-9D42-5E6E47F8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51256-F30C-4FC4-AF78-F14AF9E6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310C9-ABCA-4610-BAA6-A807478D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D5115-5357-4448-AA2F-9406046C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C7D8B-827D-4CBC-9DAA-C43DA743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14440-7850-4969-8A27-AAC56D9D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6E087-15BD-44B8-8C0A-AD3BEB18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59F-12B6-427F-961E-12508C85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71F47-D350-4A4C-80B8-2E6F4571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7C572-D642-485A-A5CB-AC1627EF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4F977-B835-4B1F-8FA2-C071DCBF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285-C0BA-49EF-B225-1EE568C1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E3B-9A5C-44D6-B9ED-D3A8F271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575f6d"/>
                </a:solidFill>
                <a:latin typeface="Copperplate Gothic Bold"/>
              </a:rPr>
              <a:t>Click to edit the title text format</a:t>
            </a: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1" marL="620640" indent="-228600">
              <a:spcBef>
                <a:spcPts val="40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2" marL="85896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3" marL="11430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4" marL="13716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5747-4319-4333-8618-4E4DEECF4EE1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c4800"/>
              </a:gs>
              <a:gs pos="50000">
                <a:srgbClr val="ff8b41"/>
              </a:gs>
              <a:gs pos="100000">
                <a:srgbClr val="cc48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fb99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575f6d"/>
                </a:solidFill>
                <a:latin typeface="Copperplate Gothic Bold"/>
              </a:rPr>
              <a:t>Click to edit the title text format</a:t>
            </a: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1" marL="620640" indent="-228600">
              <a:spcBef>
                <a:spcPts val="40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2" marL="85896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3" marL="11430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4" marL="13716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4844-EC2C-401A-93CA-66AE8579EC33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102" name="Chevron 10" descr=""/>
          <p:cNvPicPr/>
          <p:nvPr/>
        </p:nvPicPr>
        <p:blipFill>
          <a:blip r:embed="rId5"/>
          <a:stretch/>
        </p:blipFill>
        <p:spPr>
          <a:xfrm>
            <a:off x="3571920" y="2962440"/>
            <a:ext cx="317520" cy="360360"/>
          </a:xfrm>
          <a:prstGeom prst="rect">
            <a:avLst/>
          </a:prstGeom>
          <a:ln w="0">
            <a:noFill/>
          </a:ln>
        </p:spPr>
      </p:pic>
      <p:pic>
        <p:nvPicPr>
          <p:cNvPr id="103" name="Chevron 15" descr=""/>
          <p:cNvPicPr/>
          <p:nvPr/>
        </p:nvPicPr>
        <p:blipFill>
          <a:blip r:embed="rId6"/>
          <a:stretch/>
        </p:blipFill>
        <p:spPr>
          <a:xfrm>
            <a:off x="3382920" y="2962440"/>
            <a:ext cx="317520" cy="360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575f6d"/>
                </a:solidFill>
                <a:latin typeface="Copperplate Gothic Bold"/>
              </a:rPr>
              <a:t>Click to edit the title text format</a:t>
            </a: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1" marL="620640" indent="-228600">
              <a:spcBef>
                <a:spcPts val="40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2" marL="85896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3" marL="11430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4" marL="13716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5279-44C8-49C8-A059-38C76BF7E5B8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575f6d"/>
                </a:solidFill>
                <a:latin typeface="Copperplate Gothic Bold"/>
              </a:rPr>
              <a:t>Click to edit the title text format</a:t>
            </a: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1" marL="620640" indent="-228600">
              <a:spcBef>
                <a:spcPts val="40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2" marL="85896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3" marL="11430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4" marL="13716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BF30-EFB9-4FBF-A0CD-655930DF210D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575f6d"/>
                </a:solidFill>
                <a:latin typeface="Copperplate Gothic Bold"/>
              </a:rPr>
              <a:t>Click to edit the title text format</a:t>
            </a: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1" marL="620640" indent="-228600">
              <a:spcBef>
                <a:spcPts val="40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2" marL="85896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3" marL="11430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4" marL="13716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E871-132A-4969-8E34-8826E8DC432F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233" name="Chevron 19" descr=""/>
          <p:cNvPicPr/>
          <p:nvPr/>
        </p:nvPicPr>
        <p:blipFill>
          <a:blip r:embed="rId5"/>
          <a:stretch/>
        </p:blipFill>
        <p:spPr>
          <a:xfrm>
            <a:off x="8594640" y="4943520"/>
            <a:ext cx="317520" cy="366840"/>
          </a:xfrm>
          <a:prstGeom prst="rect">
            <a:avLst/>
          </a:prstGeom>
          <a:ln w="0">
            <a:noFill/>
          </a:ln>
        </p:spPr>
      </p:pic>
      <p:pic>
        <p:nvPicPr>
          <p:cNvPr id="234" name="Chevron 20" descr=""/>
          <p:cNvPicPr/>
          <p:nvPr/>
        </p:nvPicPr>
        <p:blipFill>
          <a:blip r:embed="rId6"/>
          <a:stretch/>
        </p:blipFill>
        <p:spPr>
          <a:xfrm>
            <a:off x="8412120" y="4943520"/>
            <a:ext cx="317520" cy="3668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575f6d"/>
                </a:solidFill>
                <a:latin typeface="Copperplate Gothic Bold"/>
              </a:rPr>
              <a:t>Click to edit the title text format</a:t>
            </a:r>
            <a:endParaRPr b="1" lang="en-US" sz="4100" spc="-1" strike="noStrike">
              <a:solidFill>
                <a:srgbClr val="575f6d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1" marL="620640" indent="-228600">
              <a:spcBef>
                <a:spcPts val="40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2" marL="85896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3" marL="11430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4" marL="1371600" indent="-228600">
              <a:spcBef>
                <a:spcPts val="40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pe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8144-7335-4423-A470-A207926DBDB5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uFsDN8dsJU&amp;feature=related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colour logo new one with name"/>
          <p:cNvPicPr/>
          <p:nvPr/>
        </p:nvPicPr>
        <p:blipFill>
          <a:blip r:embed="rId1"/>
          <a:stretch/>
        </p:blipFill>
        <p:spPr>
          <a:xfrm>
            <a:off x="3143160" y="142920"/>
            <a:ext cx="2214720" cy="2004840"/>
          </a:xfrm>
          <a:prstGeom prst="rect">
            <a:avLst/>
          </a:prstGeom>
          <a:ln w="0">
            <a:noFill/>
          </a:ln>
        </p:spPr>
      </p:pic>
      <p:pic>
        <p:nvPicPr>
          <p:cNvPr id="277" name="Title 1" descr=""/>
          <p:cNvPicPr/>
          <p:nvPr/>
        </p:nvPicPr>
        <p:blipFill>
          <a:blip r:embed="rId2"/>
          <a:stretch/>
        </p:blipFill>
        <p:spPr>
          <a:xfrm>
            <a:off x="706320" y="2066760"/>
            <a:ext cx="8218440" cy="1839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42960" y="400032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575f6d"/>
                </a:solidFill>
                <a:latin typeface="Boopee"/>
              </a:rPr>
              <a:t>PLP – Powerful Learning Practice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PLP is an opportunity for educators to embed authentic learning experiences using 21</a:t>
            </a:r>
            <a:r>
              <a:rPr b="0" lang="en-AU" sz="3600" spc="-1" strike="noStrike" baseline="30000">
                <a:solidFill>
                  <a:srgbClr val="000000"/>
                </a:solidFill>
                <a:latin typeface="Boopee"/>
              </a:rPr>
              <a:t>st</a:t>
            </a: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 Century Technologies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Educators and students sharing a journey together and being innovative using Web 2.0 Technologies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Boopee"/>
              </a:rPr>
              <a:t>http://www.youtube.com/watch?v=m6rmAGuteI&amp;feature=player_embedded</a:t>
            </a:r>
            <a:endParaRPr b="0" lang="en-US" sz="27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1143000" y="371484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It works hand in hand with our 1:1 Netbook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Innovate and take risks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Common focus – Ind Ed and kids 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Meet and discuss each week after school weekly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Share and trust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Support each other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Extra mtg after elluminate session to reflect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24720" indent="-22716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Assist team to leader to remind each other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Creating/developing/sharing knowledge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Kids sharing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Walk the talk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Share with staff at staff meetings seeking feedback – all school staff involved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39480" indent="-237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</p:txBody>
      </p:sp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723520" cy="11588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0" y="148104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Ning – PLP Social Network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Delicious 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Twitter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Diigo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43080" indent="-24012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2"/>
          <a:stretch/>
        </p:blipFill>
        <p:spPr>
          <a:xfrm>
            <a:off x="2500200" y="2643120"/>
            <a:ext cx="2266920" cy="6764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"/>
          <p:cNvPicPr/>
          <p:nvPr/>
        </p:nvPicPr>
        <p:blipFill>
          <a:blip r:embed="rId3"/>
          <a:stretch/>
        </p:blipFill>
        <p:spPr>
          <a:xfrm>
            <a:off x="5429160" y="1357200"/>
            <a:ext cx="1357560" cy="1071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"/>
          <p:cNvPicPr/>
          <p:nvPr/>
        </p:nvPicPr>
        <p:blipFill>
          <a:blip r:embed="rId4"/>
          <a:stretch/>
        </p:blipFill>
        <p:spPr>
          <a:xfrm>
            <a:off x="2571840" y="3714840"/>
            <a:ext cx="1071360" cy="1050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"/>
          <p:cNvPicPr/>
          <p:nvPr/>
        </p:nvPicPr>
        <p:blipFill>
          <a:blip r:embed="rId5"/>
          <a:stretch/>
        </p:blipFill>
        <p:spPr>
          <a:xfrm>
            <a:off x="2500200" y="5072040"/>
            <a:ext cx="14288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49976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Boopee"/>
              </a:rPr>
              <a:t>Students use Web 2.0 applications outside of school, we need to keep up to date with 21</a:t>
            </a:r>
            <a:r>
              <a:rPr b="0" lang="en-AU" sz="3300" spc="-1" strike="noStrike" baseline="30000">
                <a:solidFill>
                  <a:srgbClr val="000000"/>
                </a:solidFill>
                <a:latin typeface="Boopee"/>
              </a:rPr>
              <a:t>st</a:t>
            </a:r>
            <a:r>
              <a:rPr b="0" lang="en-AU" sz="3300" spc="-1" strike="noStrike">
                <a:solidFill>
                  <a:srgbClr val="000000"/>
                </a:solidFill>
                <a:latin typeface="Boopee"/>
              </a:rPr>
              <a:t> Century Technologies so we can share their journey, allowing their learning to be more accessible</a:t>
            </a: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  <a:p>
            <a:pPr marL="32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  <a:p>
            <a:pPr marL="328320" indent="-23004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Boopee"/>
              </a:rPr>
              <a:t>Here are some of the skills our kids have now!</a:t>
            </a: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  <a:p>
            <a:pPr marL="32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  <a:p>
            <a:pPr marL="32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 u="sng">
                <a:solidFill>
                  <a:srgbClr val="d2611c"/>
                </a:solidFill>
                <a:uFillTx/>
                <a:latin typeface="Boopee"/>
                <a:hlinkClick r:id="rId2"/>
              </a:rPr>
              <a:t>http://www.youtube.com/watch?v=JuFsDN8dsJU&amp;feature=related</a:t>
            </a: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lnSpc>
                <a:spcPct val="90000"/>
              </a:lnSpc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Boopee"/>
              </a:rPr>
              <a:t>Given that our students are moving with Web 2.0 technologies, what are the implications of students using social networking tools?</a:t>
            </a: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  <a:p>
            <a:pPr marL="313920" indent="-219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Boopee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928800" y="3571920"/>
            <a:ext cx="1247760" cy="647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"/>
          <p:cNvPicPr/>
          <p:nvPr/>
        </p:nvPicPr>
        <p:blipFill>
          <a:blip r:embed="rId3"/>
          <a:stretch/>
        </p:blipFill>
        <p:spPr>
          <a:xfrm>
            <a:off x="2714760" y="3714840"/>
            <a:ext cx="1428480" cy="5331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4"/>
          <a:stretch/>
        </p:blipFill>
        <p:spPr>
          <a:xfrm>
            <a:off x="471492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5"/>
          <a:stretch/>
        </p:blipFill>
        <p:spPr>
          <a:xfrm>
            <a:off x="6143760" y="3786120"/>
            <a:ext cx="1944720" cy="642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6"/>
          <a:stretch/>
        </p:blipFill>
        <p:spPr>
          <a:xfrm>
            <a:off x="1214280" y="4929120"/>
            <a:ext cx="971640" cy="1171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"/>
          <p:cNvPicPr/>
          <p:nvPr/>
        </p:nvPicPr>
        <p:blipFill>
          <a:blip r:embed="rId7"/>
          <a:stretch/>
        </p:blipFill>
        <p:spPr>
          <a:xfrm>
            <a:off x="3786120" y="5143680"/>
            <a:ext cx="92412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"/>
          <p:cNvPicPr/>
          <p:nvPr/>
        </p:nvPicPr>
        <p:blipFill>
          <a:blip r:embed="rId8"/>
          <a:stretch/>
        </p:blipFill>
        <p:spPr>
          <a:xfrm>
            <a:off x="6357960" y="4786200"/>
            <a:ext cx="14288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Check out other Powerful Learning Practice in Their Hands Netbook Trial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Boopee"/>
              </a:rPr>
              <a:t>http://plpnetbooktrial.wikispaces.com/</a:t>
            </a:r>
            <a:endParaRPr b="0" lang="en-US" sz="3600" spc="-1" strike="noStrike">
              <a:solidFill>
                <a:srgbClr val="000000"/>
              </a:solidFill>
              <a:latin typeface="Boope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http://cybersmart.gov.au/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http://murch.globalteacher.org.au/netgened/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http://cybersmart.gov.au/Teens/Tips%20and%20advice/Your%20digital%20footprint.asp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Tips for Leaving a Good Blog Comment.doc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  <a:p>
            <a:pPr marL="346680" indent="-242640">
              <a:spcBef>
                <a:spcPts val="400"/>
              </a:spcBef>
              <a:buClr>
                <a:srgbClr val="fe863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pee"/>
              </a:rPr>
              <a:t>Nine Themes of Digital Citizenship.doc</a:t>
            </a:r>
            <a:endParaRPr b="0" lang="en-US" sz="2800" spc="-1" strike="noStrike">
              <a:solidFill>
                <a:srgbClr val="000000"/>
              </a:solidFill>
              <a:latin typeface="Boopee"/>
            </a:endParaRPr>
          </a:p>
        </p:txBody>
      </p:sp>
      <p:pic>
        <p:nvPicPr>
          <p:cNvPr id="3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1:18:34Z</dcterms:created>
  <dc:creator>Education</dc:creator>
  <dc:description/>
  <dc:language>en-US</dc:language>
  <cp:lastModifiedBy>Education</cp:lastModifiedBy>
  <dcterms:modified xsi:type="dcterms:W3CDTF">2009-11-12T22:51:58Z</dcterms:modified>
  <cp:revision>19</cp:revision>
  <dc:subject/>
  <dc:title>Two Rivers DIDGes</dc:title>
</cp:coreProperties>
</file>